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D67-3DEE-43B5-B560-B3E9AA57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8D1-E5D8-47DC-B009-34829F95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B34-AC5B-49B8-B9EE-3CA723C1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3F1-90D9-41ED-AC2D-91B1208F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8889-659D-44D2-AE70-ADDB4C2F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D64B-134B-4B89-97F2-5C1A2C3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40D2-BA68-47B2-99CA-8A6C83E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CF2-7D0E-453A-8074-E2DCCDA0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42A1-522B-4C9D-9DB4-69FA0DA0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D2D-9E0A-457F-95F9-D9523844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CBC1-ADA9-4098-A875-07F8B72F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8B3-F180-45D3-9D84-4F8FA0E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C48D-CC4A-424A-964F-EFEA719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740C-7C99-40C4-B6C9-1721CE5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F263-1DB1-4DF5-8541-6FDFE240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88D-1146-45C9-B88A-6C42653C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D289-5A97-4C22-8EE4-65D57D66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C51-2136-4207-A31E-FE00944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2B9-25ED-4388-96B2-316E36C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26C-7B58-4D21-828A-13FF1F9A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F44-707D-4A71-8357-E9A066B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C07-3097-4026-8532-7C5C755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1E1-9EC9-4B02-9172-6731E19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ADD-EE71-464D-89F3-B1A3B55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B043-55A6-4BF1-A95E-FB0A12073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8404-42C1-47AC-836A-E16C3DCA1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2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Option - Pap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atic OR Chronological approach - not just 10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questions per topic - no stipulation that they have to answer from different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LL bul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han Paper 2 mark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than old paper 3 mark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Revolution and Napoleon - Mid 18th Century to 18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cation and consolidation of Germany and 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an Empire from early 19th to Early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ern &amp; northern Europe 1848-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 Russia, revolutions, emergence of Soviet State 1853-19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Diplomacy and the First Worl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and Change in the Middle East 1914-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ar years: conflict and cooperation 1919-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viet State and Eastern Europe 1924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World War and Post-war Western Europe 1939-2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war developments in the Middle East 1945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and Economic developments in Europe and the Middle east in the 19th or 20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questions – 2 from each of the 12 sections in the History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that name specific people, pla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ill be taken from the bulleted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an use material on any country in the region to answer ope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hoose any 3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05:46Z</dcterms:created>
  <dc:creator>David Smith User</dc:creator>
  <dc:description/>
  <dc:language>en-US</dc:language>
  <cp:lastModifiedBy>David Smith User</cp:lastModifiedBy>
  <dcterms:modified xsi:type="dcterms:W3CDTF">2008-07-05T19:12:31Z</dcterms:modified>
  <cp:revision>10</cp:revision>
  <dc:subject/>
  <dc:title>External Assessment</dc:title>
</cp:coreProperties>
</file>